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A963-75D5-41DE-9002-F4982E1343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A24-FBF0-49BC-B582-B6A2E8686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46E8-6789-4EFC-BA7D-9FA2B2229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490-9FBB-452B-B17F-38ECE6C36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7DB-8992-48BD-B9CB-4358B18EA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7E2-3AEF-4E57-B4EE-0593E1DA3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8B4E-7391-4196-8719-F6A03682B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C721-1244-42A1-A85E-744A8C676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E66-326C-4C01-A168-D54100647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1BE-0051-44E2-A4F1-7390C24E2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2FE-B1FC-4520-B48A-03E291DA0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06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6680"/>
                <a:ext cx="961920" cy="50004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70080"/>
                <a:ext cx="961920" cy="5025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4640"/>
                <a:ext cx="961920" cy="303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280"/>
                <a:ext cx="961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760"/>
                <a:ext cx="961920" cy="4327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960"/>
                <a:ext cx="974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3280" y="3915720"/>
                <a:ext cx="961920" cy="4989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7320" y="3537720"/>
                <a:ext cx="961920" cy="50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960"/>
                <a:ext cx="96192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7320" y="3220560"/>
                <a:ext cx="961920" cy="3470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0400"/>
                <a:ext cx="96192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7480"/>
                <a:ext cx="961920" cy="49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4480"/>
                <a:ext cx="961560" cy="50292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1120"/>
                <a:ext cx="961560" cy="302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160" y="6198480"/>
                <a:ext cx="345600" cy="9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6240"/>
                <a:ext cx="96192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560"/>
                <a:ext cx="97416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8080" y="15192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was government structured in Mesopotam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Warm-Up Question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at determines if the crime fits the punishment? Can you think of examples where the punishment fits the crim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echnology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s inventions include the wheel, sail, plow, &amp; bronze metalwork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0" y="5486400"/>
            <a:ext cx="2666880" cy="137160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3003480" y="4267080"/>
            <a:ext cx="6140520" cy="259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2819520" y="2819520"/>
            <a:ext cx="586728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666880" y="76176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bylonian King Hammurabi created the first lega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mmurabi’s Code had 282 laws based on justice &amp; retaliation (an eye for an ey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de had different punishments for the various levels of soci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ular Callout 4"/>
          <p:cNvSpPr/>
          <p:nvPr/>
        </p:nvSpPr>
        <p:spPr>
          <a:xfrm>
            <a:off x="228600" y="4952880"/>
            <a:ext cx="6400800" cy="1828800"/>
          </a:xfrm>
          <a:prstGeom prst="wedgeRectCallout">
            <a:avLst>
              <a:gd name="adj1" fmla="val 33805"/>
              <a:gd name="adj2" fmla="val -135375"/>
            </a:avLst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Mesopotamia means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“land between the rivers” &amp; i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often called the “Fertile Crescent”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or as the “Cradle of Civilization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ular Callout 5"/>
          <p:cNvSpPr/>
          <p:nvPr/>
        </p:nvSpPr>
        <p:spPr>
          <a:xfrm>
            <a:off x="2286000" y="5257800"/>
            <a:ext cx="6400800" cy="1371600"/>
          </a:xfrm>
          <a:prstGeom prst="wedgeRectCallout">
            <a:avLst>
              <a:gd name="adj1" fmla="val 2912"/>
              <a:gd name="adj2" fmla="val -184986"/>
            </a:avLst>
          </a:prstGeom>
          <a:solidFill>
            <a:srgbClr val="ff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he Tigris and Euphrates Rivers flooded once per year, leaving behind fertile soil ideal for farming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4"/>
          <p:cNvSpPr/>
          <p:nvPr/>
        </p:nvSpPr>
        <p:spPr>
          <a:xfrm>
            <a:off x="2743200" y="228600"/>
            <a:ext cx="5715000" cy="990720"/>
          </a:xfrm>
          <a:prstGeom prst="wedgeRectCallout">
            <a:avLst>
              <a:gd name="adj1" fmla="val 34652"/>
              <a:gd name="adj2" fmla="val 310564"/>
            </a:avLst>
          </a:prstGeom>
          <a:solidFill>
            <a:srgbClr val="ccb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The first civilization developed in the Fertile Crescent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Sum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ular Callout 7"/>
          <p:cNvSpPr/>
          <p:nvPr/>
        </p:nvSpPr>
        <p:spPr>
          <a:xfrm>
            <a:off x="533520" y="5410080"/>
            <a:ext cx="8305560" cy="1371600"/>
          </a:xfrm>
          <a:prstGeom prst="wedgeRectCallout">
            <a:avLst>
              <a:gd name="adj1" fmla="val 2824"/>
              <a:gd name="adj2" fmla="val 3564"/>
            </a:avLst>
          </a:pr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But, surrounding deserts &amp; the lack of natural barriers attracted outsiders to Mesopotamia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made the Sumerians vulnerable to attack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dvanced citie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 city-states were protected by high wall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t the city center was a temple called a ziggurat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3276720" y="3967200"/>
            <a:ext cx="5105160" cy="2890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0" y="457200"/>
            <a:ext cx="2666880" cy="10666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0" y="1523880"/>
            <a:ext cx="2666880" cy="129564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743200" y="685800"/>
            <a:ext cx="6400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Specialized Worker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At the top of society were priests, and then k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In the middle were skilled workers, like merchant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At the bottom, were common farmers &amp; sla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peace"/>
          <p:cNvPicPr/>
          <p:nvPr/>
        </p:nvPicPr>
        <p:blipFill>
          <a:blip r:embed="rId3"/>
          <a:stretch/>
        </p:blipFill>
        <p:spPr>
          <a:xfrm>
            <a:off x="2743200" y="6033960"/>
            <a:ext cx="6400800" cy="97632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peace"/>
          <p:cNvPicPr/>
          <p:nvPr/>
        </p:nvPicPr>
        <p:blipFill>
          <a:blip r:embed="rId4"/>
          <a:stretch/>
        </p:blipFill>
        <p:spPr>
          <a:xfrm>
            <a:off x="2743200" y="4114800"/>
            <a:ext cx="64008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il_fi" descr="peace"/>
          <p:cNvPicPr/>
          <p:nvPr/>
        </p:nvPicPr>
        <p:blipFill>
          <a:blip r:embed="rId5"/>
          <a:stretch/>
        </p:blipFill>
        <p:spPr>
          <a:xfrm>
            <a:off x="2743200" y="2209680"/>
            <a:ext cx="640080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ligion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merians &amp; Babylonians were polytheis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Hebrews in Palestine were the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onotheistic faith in history (Judais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holy book of Judaism is the Torah; God gave Moses the Ten Commandments which serve as moral law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13" descr=""/>
          <p:cNvPicPr/>
          <p:nvPr/>
        </p:nvPicPr>
        <p:blipFill>
          <a:blip r:embed="rId3"/>
          <a:stretch/>
        </p:blipFill>
        <p:spPr>
          <a:xfrm>
            <a:off x="2895480" y="2816280"/>
            <a:ext cx="6096240" cy="4041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13" descr=""/>
          <p:cNvPicPr/>
          <p:nvPr/>
        </p:nvPicPr>
        <p:blipFill>
          <a:blip r:embed="rId4"/>
          <a:stretch/>
        </p:blipFill>
        <p:spPr>
          <a:xfrm>
            <a:off x="3276720" y="2514600"/>
            <a:ext cx="2111400" cy="31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13" descr=""/>
          <p:cNvPicPr/>
          <p:nvPr/>
        </p:nvPicPr>
        <p:blipFill>
          <a:blip r:embed="rId5"/>
          <a:stretch/>
        </p:blipFill>
        <p:spPr>
          <a:xfrm>
            <a:off x="5380200" y="2514600"/>
            <a:ext cx="30016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16" descr=""/>
          <p:cNvPicPr/>
          <p:nvPr/>
        </p:nvPicPr>
        <p:blipFill>
          <a:blip r:embed="rId6"/>
          <a:stretch/>
        </p:blipFill>
        <p:spPr>
          <a:xfrm>
            <a:off x="3276720" y="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2819520"/>
            <a:ext cx="2666880" cy="12952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04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741760" y="838080"/>
            <a:ext cx="6402240" cy="579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alibri"/>
              </a:rPr>
              <a:t>Lasting Contributions 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66880" y="685440"/>
            <a:ext cx="6553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merians made the world’s 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writing called cuneiform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hoenicians simplified cuneiform to a 22 letter alphabe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hoenici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ercha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read the alphabet throughout the Mediterranean worl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080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lphabet influenced Greek, Latin, &amp; English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114300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4114800"/>
            <a:ext cx="2666880" cy="137160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57" descr=""/>
          <p:cNvPicPr/>
          <p:nvPr/>
        </p:nvPicPr>
        <p:blipFill>
          <a:blip r:embed="rId3"/>
          <a:stretch/>
        </p:blipFill>
        <p:spPr>
          <a:xfrm>
            <a:off x="3726000" y="2408400"/>
            <a:ext cx="5113080" cy="444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11" descr=""/>
          <p:cNvPicPr/>
          <p:nvPr/>
        </p:nvPicPr>
        <p:blipFill>
          <a:blip r:embed="rId4"/>
          <a:stretch/>
        </p:blipFill>
        <p:spPr>
          <a:xfrm>
            <a:off x="0" y="685800"/>
            <a:ext cx="3274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2:00:46Z</dcterms:created>
  <dc:creator>Brooks Baggett</dc:creator>
  <dc:description/>
  <dc:language>en-US</dc:language>
  <cp:lastModifiedBy>NYCDOE</cp:lastModifiedBy>
  <dcterms:modified xsi:type="dcterms:W3CDTF">2012-09-28T12:26:03Z</dcterms:modified>
  <cp:revision>82</cp:revision>
  <dc:subject/>
  <dc:title>Slide 1</dc:title>
</cp:coreProperties>
</file>